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B46-431D-4C8F-A86D-CE806D1F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26F-9B6F-434E-A994-B0614731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254-828E-49EA-98D4-E4F639F4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12B-B625-4CAC-A62C-D51FE1B4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5EB-5B6E-4CA3-AF95-9A35D19F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554-31DE-4586-B817-23BA86C2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78E-D4AA-405B-B108-BB63C3F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826-C203-4E8B-8456-9581DA9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DB2-F420-438E-908C-4D918FCD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711-8E95-4B8B-BE6D-94FEA3E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A51-88EB-49E7-B4E1-40B11E77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006-3C03-47F2-BD29-D7E266E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DF76-29E8-4A19-9F34-2054630D66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tAwMw6tRu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_x0012_ㇽ皓թ숲"/>
          <p:cNvPicPr/>
          <p:nvPr/>
        </p:nvPicPr>
        <p:blipFill>
          <a:blip r:embed="rId1"/>
          <a:stretch/>
        </p:blipFill>
        <p:spPr>
          <a:xfrm>
            <a:off x="1547640" y="1557360"/>
            <a:ext cx="61930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icl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emen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50-16"/>
          <p:cNvPicPr/>
          <p:nvPr/>
        </p:nvPicPr>
        <p:blipFill>
          <a:blip r:embed="rId1"/>
          <a:srcRect l="1042" t="0" r="1713" b="0"/>
          <a:stretch/>
        </p:blipFill>
        <p:spPr>
          <a:xfrm>
            <a:off x="2916360" y="0"/>
            <a:ext cx="5327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24000" y="1628640"/>
            <a:ext cx="23763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H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- Hormona luteinizante: provoca la rotura del folículo con la consiguiente salida del óv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l folículo vacío se convierte en cuerpo lúteo bajo la influencia de esta horm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SH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- Hormona estimulante del folículo: hace que el folículo vaya madur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mages-of-human-female-reproductive-system"/>
          <p:cNvPicPr/>
          <p:nvPr/>
        </p:nvPicPr>
        <p:blipFill>
          <a:blip r:embed="rId1"/>
          <a:stretch/>
        </p:blipFill>
        <p:spPr>
          <a:xfrm>
            <a:off x="1116000" y="1349280"/>
            <a:ext cx="6883560" cy="4608720"/>
          </a:xfrm>
          <a:prstGeom prst="rect">
            <a:avLst/>
          </a:prstGeom>
          <a:ln w="0">
            <a:noFill/>
          </a:ln>
        </p:spPr>
      </p:pic>
      <p:sp>
        <p:nvSpPr>
          <p:cNvPr id="44" name="1 Título"/>
          <p:cNvSpPr/>
          <p:nvPr/>
        </p:nvSpPr>
        <p:spPr>
          <a:xfrm>
            <a:off x="755640" y="62064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Título"/>
          <p:cNvSpPr/>
          <p:nvPr/>
        </p:nvSpPr>
        <p:spPr>
          <a:xfrm>
            <a:off x="611280" y="620640"/>
            <a:ext cx="7916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1969" t="0" r="0" b="0"/>
          <a:stretch/>
        </p:blipFill>
        <p:spPr>
          <a:xfrm>
            <a:off x="1979640" y="1434960"/>
            <a:ext cx="49118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parato reproductor feme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istema-reproductor-femenino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parato reproductor femenino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DR650412-750"/>
          <p:cNvPicPr/>
          <p:nvPr/>
        </p:nvPicPr>
        <p:blipFill>
          <a:blip r:embed="rId1"/>
          <a:stretch/>
        </p:blipFill>
        <p:spPr>
          <a:xfrm>
            <a:off x="1835280" y="1127160"/>
            <a:ext cx="5616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parato reproductor femenin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istema+Reproductor+Femenino+y+partes+Aparato+de+costado+3"/>
          <p:cNvPicPr/>
          <p:nvPr/>
        </p:nvPicPr>
        <p:blipFill>
          <a:blip r:embed="rId1"/>
          <a:stretch/>
        </p:blipFill>
        <p:spPr>
          <a:xfrm>
            <a:off x="900000" y="1227240"/>
            <a:ext cx="755964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parato reproductor femenino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547640" y="1036800"/>
          <a:ext cx="6048720" cy="56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036800"/>
                    <a:ext cx="6048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parato reproductor femenin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DR0000650434_full"/>
          <p:cNvPicPr/>
          <p:nvPr/>
        </p:nvPicPr>
        <p:blipFill>
          <a:blip r:embed="rId1"/>
          <a:stretch/>
        </p:blipFill>
        <p:spPr>
          <a:xfrm>
            <a:off x="1332000" y="1108080"/>
            <a:ext cx="62643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003400" y="324648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BtAwMw6tR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10:15:05Z</dcterms:created>
  <dc:creator>Rafael</dc:creator>
  <dc:description/>
  <dc:language>en-US</dc:language>
  <cp:lastModifiedBy>Rafael Moreno</cp:lastModifiedBy>
  <dcterms:modified xsi:type="dcterms:W3CDTF">2016-06-12T16:44:05Z</dcterms:modified>
  <cp:revision>6</cp:revision>
  <dc:subject/>
  <dc:title>Aparato reproductor femenino</dc:title>
</cp:coreProperties>
</file>